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1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B5AA-DCE7-4ABE-9F73-7BF3288CEB4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档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em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p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编译环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58920" y="3141360"/>
            <a:ext cx="3384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58920" y="3141360"/>
            <a:ext cx="3384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58920" y="3141360"/>
            <a:ext cx="3384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58920" y="3141360"/>
            <a:ext cx="3384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中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2987640" y="2781360"/>
            <a:ext cx="4427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00720" y="3860640"/>
            <a:ext cx="1728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842920" y="2707920"/>
            <a:ext cx="45370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284360" y="3862080"/>
            <a:ext cx="19429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marL="6516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160" indent="-6516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5160" indent="-6516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65160" indent="-6516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65160" indent="-6516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65160" indent="-6516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65160" indent="-6516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7" descr="SIMCom10 十周年LOGO副本"/>
          <p:cNvPicPr/>
          <p:nvPr/>
        </p:nvPicPr>
        <p:blipFill>
          <a:blip r:embed="rId3"/>
          <a:stretch/>
        </p:blipFill>
        <p:spPr>
          <a:xfrm>
            <a:off x="7380360" y="5084640"/>
            <a:ext cx="1584360" cy="155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中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6200" y="907560"/>
            <a:ext cx="3529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466560" y="907920"/>
            <a:ext cx="34671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539640" y="1844640"/>
            <a:ext cx="81378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8459640" y="6524640"/>
            <a:ext cx="4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5910-71FF-4146-8B23-C7E8007C90B8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中-3"/>
          <p:cNvPicPr/>
          <p:nvPr/>
        </p:nvPicPr>
        <p:blipFill>
          <a:blip r:embed="rId2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8677440" y="6597720"/>
            <a:ext cx="39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1C2F-F7ED-48C3-A013-9683D18F3E89}" type="slidenum">
              <a:rPr b="0" i="1" lang="zh-CN" sz="10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995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中-4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SIMCom10 十周年LOGO副本"/>
          <p:cNvPicPr/>
          <p:nvPr/>
        </p:nvPicPr>
        <p:blipFill>
          <a:blip r:embed="rId3"/>
          <a:stretch/>
        </p:blipFill>
        <p:spPr>
          <a:xfrm>
            <a:off x="7308720" y="5084640"/>
            <a:ext cx="1656000" cy="16239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D:/SIM8xx_EAT_app/SIM8xx_EAT_app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2843280" y="2276640"/>
            <a:ext cx="453708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SIMCOM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E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5003640" y="4149720"/>
            <a:ext cx="410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3529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编译器安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内容占位符 4"/>
          <p:cNvGraphicFramePr/>
          <p:nvPr/>
        </p:nvGraphicFramePr>
        <p:xfrm>
          <a:off x="3203640" y="1989000"/>
          <a:ext cx="2038320" cy="341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内容占位符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989000"/>
                    <a:ext cx="2038320" cy="34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6200" y="764640"/>
            <a:ext cx="3529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示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971640" y="1773360"/>
            <a:ext cx="5113080" cy="1295280"/>
          </a:xfrm>
          <a:prstGeom prst="rect">
            <a:avLst/>
          </a:prstGeom>
          <a:solidFill>
            <a:srgbClr val="e6fee6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华文细黑"/>
              </a:rPr>
              <a:t>#pragma arm section rodata = "APP_CFG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华文细黑"/>
              </a:rPr>
              <a:t>APP_ENTRY_FLA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华文细黑"/>
              </a:rPr>
              <a:t>#pragma arm section ro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971640" y="3213000"/>
            <a:ext cx="4895640" cy="17398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新魏"/>
              </a:rPr>
              <a:t>#pragma arm section rodata="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华文新魏"/>
              </a:rPr>
              <a:t>APPENT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新魏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新魏"/>
              </a:rPr>
              <a:t>const EatEntry_st AppEntry =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新魏"/>
              </a:rPr>
              <a:t>{    app_main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新魏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新魏"/>
              </a:rPr>
              <a:t>app_func_ext1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新魏"/>
              </a:rPr>
              <a:t>...}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新魏"/>
              </a:rPr>
              <a:t>#pragma arm section ro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线形标注 2(带强调线) 5"/>
          <p:cNvSpPr/>
          <p:nvPr/>
        </p:nvSpPr>
        <p:spPr>
          <a:xfrm>
            <a:off x="6227640" y="3500280"/>
            <a:ext cx="2143080" cy="540000"/>
          </a:xfrm>
          <a:solidFill>
            <a:srgbClr val="528bb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ry function arr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线形标注 2(带强调线) 10"/>
          <p:cNvSpPr/>
          <p:nvPr/>
        </p:nvSpPr>
        <p:spPr>
          <a:xfrm>
            <a:off x="6516720" y="1916280"/>
            <a:ext cx="2143080" cy="539640"/>
          </a:xfrm>
          <a:solidFill>
            <a:srgbClr val="528bb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IM800 and SIM800H ad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6200" y="692280"/>
            <a:ext cx="3529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示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圆角矩形 7"/>
          <p:cNvSpPr/>
          <p:nvPr/>
        </p:nvSpPr>
        <p:spPr>
          <a:xfrm flipV="1">
            <a:off x="826920" y="1556280"/>
            <a:ext cx="5905800" cy="1655640"/>
          </a:xfrm>
          <a:prstGeom prst="roundRect">
            <a:avLst>
              <a:gd name="adj" fmla="val 16667"/>
            </a:avLst>
          </a:prstGeom>
          <a:solidFill>
            <a:srgbClr val="dce6f2">
              <a:alpha val="31000"/>
            </a:srgbClr>
          </a:solidFill>
          <a:ln w="6480">
            <a:solidFill>
              <a:srgbClr val="bbe0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oid app_func_ext1(void *dat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t_uart_set_debug(EAT_UART_2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t_uart_set_at_port(EAT_UART_1);// UART1 is as AT 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圆角矩形 20"/>
          <p:cNvSpPr/>
          <p:nvPr/>
        </p:nvSpPr>
        <p:spPr>
          <a:xfrm flipV="1">
            <a:off x="826920" y="3211920"/>
            <a:ext cx="5905800" cy="3095640"/>
          </a:xfrm>
          <a:prstGeom prst="roundRect">
            <a:avLst>
              <a:gd name="adj" fmla="val 16667"/>
            </a:avLst>
          </a:prstGeom>
          <a:solidFill>
            <a:srgbClr val="ffff99">
              <a:alpha val="31000"/>
            </a:srgbClr>
          </a:solidFill>
          <a:ln w="6480">
            <a:solidFill>
              <a:srgbClr val="bbe0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oid app_main(void *dat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{   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_InitRegions();//Init app RAM, Fir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_init_clib();     //Init C lib , Seco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(EAT_TRU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{   eat_get_event(&amp;event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witch(event.eve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{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se EAT_EVENT_MDM_READY_RD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{   progress();    }    break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se 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}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线形标注 2(带强调线) 9"/>
          <p:cNvSpPr/>
          <p:nvPr/>
        </p:nvSpPr>
        <p:spPr>
          <a:xfrm>
            <a:off x="7000920" y="1989000"/>
            <a:ext cx="2143080" cy="540000"/>
          </a:xfrm>
          <a:solidFill>
            <a:srgbClr val="528bb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ardware initializ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线形标注 2(带强调线) 10"/>
          <p:cNvSpPr/>
          <p:nvPr/>
        </p:nvSpPr>
        <p:spPr>
          <a:xfrm>
            <a:off x="7000920" y="3789360"/>
            <a:ext cx="2143080" cy="539640"/>
          </a:xfrm>
          <a:solidFill>
            <a:srgbClr val="528bb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ain thre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6200" y="692280"/>
            <a:ext cx="2305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编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4000" y="5516280"/>
            <a:ext cx="801180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生成的临时文件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14852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6200" y="692280"/>
            <a:ext cx="2953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下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选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\SIM800H32_EMBEDDEDAT\*.cfg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789624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6200" y="692280"/>
            <a:ext cx="3529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下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39640" y="141264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设置好端口，并先点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wnloa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再给模块上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7875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58920" y="3141360"/>
            <a:ext cx="338436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ffff"/>
                </a:solidFill>
                <a:latin typeface="Arial"/>
              </a:rPr>
              <a:t>谢谢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0" descr=""/>
          <p:cNvPicPr/>
          <p:nvPr/>
        </p:nvPicPr>
        <p:blipFill>
          <a:blip r:embed="rId1"/>
          <a:stretch/>
        </p:blipFill>
        <p:spPr>
          <a:xfrm>
            <a:off x="466560" y="1052640"/>
            <a:ext cx="8393400" cy="41097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47"/>
          <p:cNvSpPr/>
          <p:nvPr/>
        </p:nvSpPr>
        <p:spPr>
          <a:xfrm>
            <a:off x="457200" y="68904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20000"/>
                </a:solidFill>
                <a:latin typeface="Arial Black"/>
                <a:ea typeface="黑体"/>
              </a:rPr>
              <a:t>Embedded AT</a:t>
            </a:r>
            <a:r>
              <a:rPr b="1" lang="zh-CN" sz="3600" spc="-1" strike="noStrike">
                <a:solidFill>
                  <a:srgbClr val="b2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b20000"/>
                </a:solidFill>
                <a:latin typeface="黑体"/>
                <a:ea typeface="黑体"/>
              </a:rPr>
              <a:t>技术简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611280" y="5445000"/>
            <a:ext cx="7704000" cy="33732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为什么使用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Embedded AT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？</a:t>
            </a:r>
            <a:r>
              <a:rPr b="0" lang="zh-CN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充分利用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IM80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无线模块的资源，将原本需要外部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CU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完成的程序移植内嵌到无线模块内部，以达到节约成本的目的。利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OS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多线程，消息等技术，开发更高效。利用硬件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接口，减少开发难度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5472360" cy="495936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6200" y="907560"/>
            <a:ext cx="5761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20000"/>
                </a:solidFill>
                <a:latin typeface="Arial Black"/>
              </a:rPr>
              <a:t>Embedded AT</a:t>
            </a:r>
            <a:r>
              <a:rPr b="1" lang="zh-CN" sz="3600" spc="-1" strike="noStrike">
                <a:solidFill>
                  <a:srgbClr val="b20000"/>
                </a:solidFill>
                <a:latin typeface="黑体"/>
              </a:rPr>
              <a:t> </a:t>
            </a:r>
            <a:r>
              <a:rPr b="1" lang="zh-CN" sz="3600" spc="-1" strike="noStrike">
                <a:solidFill>
                  <a:srgbClr val="b20000"/>
                </a:solidFill>
                <a:latin typeface="黑体"/>
              </a:rPr>
              <a:t>技术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47"/>
          <p:cNvSpPr/>
          <p:nvPr/>
        </p:nvSpPr>
        <p:spPr>
          <a:xfrm>
            <a:off x="457200" y="68904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20000"/>
                </a:solidFill>
                <a:latin typeface="Arial Black"/>
                <a:ea typeface="黑体"/>
              </a:rPr>
              <a:t>Embedded AT</a:t>
            </a:r>
            <a:r>
              <a:rPr b="1" lang="zh-CN" sz="3600" spc="-1" strike="noStrike">
                <a:solidFill>
                  <a:srgbClr val="b20000"/>
                </a:solidFill>
                <a:latin typeface="黑体"/>
                <a:ea typeface="黑体"/>
              </a:rPr>
              <a:t>软件架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0" y="177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0" name="Object 4"/>
          <p:cNvGraphicFramePr/>
          <p:nvPr/>
        </p:nvGraphicFramePr>
        <p:xfrm>
          <a:off x="828720" y="2205000"/>
          <a:ext cx="7416720" cy="43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2205000"/>
                    <a:ext cx="7416720" cy="43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Text Box 5"/>
          <p:cNvSpPr/>
          <p:nvPr/>
        </p:nvSpPr>
        <p:spPr>
          <a:xfrm>
            <a:off x="2708280" y="1898640"/>
            <a:ext cx="3087720" cy="3070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General Software Architectu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47"/>
          <p:cNvSpPr/>
          <p:nvPr/>
        </p:nvSpPr>
        <p:spPr>
          <a:xfrm>
            <a:off x="457200" y="68904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20000"/>
                </a:solidFill>
                <a:latin typeface="Arial Black"/>
                <a:ea typeface="黑体"/>
              </a:rPr>
              <a:t>Embedded AT</a:t>
            </a:r>
            <a:r>
              <a:rPr b="1" lang="zh-CN" sz="3600" spc="-1" strike="noStrike">
                <a:solidFill>
                  <a:srgbClr val="b2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b20000"/>
                </a:solidFill>
                <a:latin typeface="黑体"/>
                <a:ea typeface="黑体"/>
              </a:rPr>
              <a:t>主要硬件特性</a:t>
            </a:r>
            <a:r>
              <a:rPr b="1" lang="en-US" sz="3600" spc="-1" strike="noStrike">
                <a:solidFill>
                  <a:srgbClr val="b20000"/>
                </a:solidFill>
                <a:latin typeface="黑体"/>
                <a:ea typeface="黑体"/>
              </a:rPr>
              <a:t>(800H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Group 3"/>
          <p:cNvGrpSpPr/>
          <p:nvPr/>
        </p:nvGrpSpPr>
        <p:grpSpPr>
          <a:xfrm>
            <a:off x="971640" y="1557360"/>
            <a:ext cx="7202160" cy="5049720"/>
            <a:chOff x="971640" y="1557360"/>
            <a:chExt cx="7202160" cy="5049720"/>
          </a:xfrm>
        </p:grpSpPr>
        <p:sp>
          <p:nvSpPr>
            <p:cNvPr id="185" name="Text Box 4"/>
            <p:cNvSpPr/>
            <p:nvPr/>
          </p:nvSpPr>
          <p:spPr>
            <a:xfrm>
              <a:off x="1150200" y="1635120"/>
              <a:ext cx="7023600" cy="49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99cc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99cc00"/>
                  </a:solidFill>
                  <a:latin typeface="Calibri"/>
                </a:rPr>
                <a:t> </a:t>
              </a:r>
              <a:r>
                <a:rPr b="1" lang="zh-CN" sz="2400" spc="-1" strike="noStrike">
                  <a:solidFill>
                    <a:srgbClr val="99cc00"/>
                  </a:solidFill>
                  <a:latin typeface="Calibri"/>
                </a:rPr>
                <a:t>ARM7EJ-S run at </a:t>
              </a:r>
              <a:r>
                <a:rPr b="1" lang="en-US" sz="2400" spc="-1" strike="noStrike">
                  <a:solidFill>
                    <a:srgbClr val="99cc00"/>
                  </a:solidFill>
                  <a:latin typeface="Calibri"/>
                </a:rPr>
                <a:t>360</a:t>
              </a:r>
              <a:r>
                <a:rPr b="1" lang="zh-CN" sz="2400" spc="-1" strike="noStrike">
                  <a:solidFill>
                    <a:srgbClr val="99cc00"/>
                  </a:solidFill>
                  <a:latin typeface="Calibri"/>
                </a:rPr>
                <a:t>MHz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99cc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99cc00"/>
                  </a:solidFill>
                  <a:latin typeface="Calibri"/>
                </a:rPr>
                <a:t> </a:t>
              </a:r>
              <a:r>
                <a:rPr b="1" lang="zh-CN" sz="2400" spc="-1" strike="noStrike">
                  <a:solidFill>
                    <a:srgbClr val="99cc00"/>
                  </a:solidFill>
                  <a:latin typeface="Calibri"/>
                </a:rPr>
                <a:t>Module flash </a:t>
              </a:r>
              <a:r>
                <a:rPr b="1" lang="en-US" sz="2400" spc="-1" strike="noStrike">
                  <a:solidFill>
                    <a:srgbClr val="99cc00"/>
                  </a:solidFill>
                  <a:latin typeface="Calibri"/>
                </a:rPr>
                <a:t>4</a:t>
              </a:r>
              <a:r>
                <a:rPr b="1" lang="zh-CN" sz="2400" spc="-1" strike="noStrike">
                  <a:solidFill>
                    <a:srgbClr val="99cc00"/>
                  </a:solidFill>
                  <a:latin typeface="Calibri"/>
                </a:rPr>
                <a:t>MB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99cc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99cc00"/>
                  </a:solidFill>
                  <a:latin typeface="Calibri"/>
                </a:rPr>
                <a:t> </a:t>
              </a:r>
              <a:r>
                <a:rPr b="1" lang="zh-CN" sz="2400" spc="-1" strike="noStrike">
                  <a:solidFill>
                    <a:srgbClr val="99cc00"/>
                  </a:solidFill>
                  <a:latin typeface="Calibri"/>
                </a:rPr>
                <a:t>User locatable resource: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- 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500KByte 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of RAM memory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- 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1.3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MB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yte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 of code memory (flash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- 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300K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B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yte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 of file syste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99cc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99cc00"/>
                  </a:solidFill>
                  <a:latin typeface="Calibri"/>
                </a:rPr>
                <a:t> </a:t>
              </a:r>
              <a:r>
                <a:rPr b="1" lang="zh-CN" sz="2400" spc="-1" strike="noStrike">
                  <a:solidFill>
                    <a:srgbClr val="99cc00"/>
                  </a:solidFill>
                  <a:latin typeface="Calibri"/>
                </a:rPr>
                <a:t>Supports up to </a:t>
              </a:r>
              <a:r>
                <a:rPr b="1" lang="en-US" sz="2400" spc="-1" strike="noStrike">
                  <a:solidFill>
                    <a:srgbClr val="99cc00"/>
                  </a:solidFill>
                  <a:latin typeface="Calibri"/>
                </a:rPr>
                <a:t>29</a:t>
              </a:r>
              <a:r>
                <a:rPr b="1" lang="zh-CN" sz="2400" spc="-1" strike="noStrike">
                  <a:solidFill>
                    <a:srgbClr val="99cc00"/>
                  </a:solidFill>
                  <a:latin typeface="Calibri"/>
                </a:rPr>
                <a:t> GPIO pins*, </a:t>
              </a:r>
              <a:r>
                <a:rPr b="1" lang="en-US" sz="2400" spc="-1" strike="noStrike">
                  <a:solidFill>
                    <a:srgbClr val="99cc00"/>
                  </a:solidFill>
                  <a:latin typeface="Calibri"/>
                </a:rPr>
                <a:t>5</a:t>
              </a:r>
              <a:r>
                <a:rPr b="1" lang="zh-CN" sz="2400" spc="-1" strike="noStrike">
                  <a:solidFill>
                    <a:srgbClr val="99cc00"/>
                  </a:solidFill>
                  <a:latin typeface="Calibri"/>
                </a:rPr>
                <a:t> GPIO IN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99cc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cc00"/>
                  </a:solidFill>
                  <a:latin typeface="Calibri"/>
                </a:rPr>
                <a:t>Periphery Interfac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-1 SPI/Display interface 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or SD card interfac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-1 I2C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-1 PW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-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 UART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 and 1 US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-1 ADC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-2 Bakcligh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-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*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 Keypad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Rectangle 5"/>
            <p:cNvSpPr/>
            <p:nvPr/>
          </p:nvSpPr>
          <p:spPr>
            <a:xfrm>
              <a:off x="971640" y="1557360"/>
              <a:ext cx="6900480" cy="48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7"/>
          <p:cNvSpPr/>
          <p:nvPr/>
        </p:nvSpPr>
        <p:spPr>
          <a:xfrm>
            <a:off x="457200" y="68904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20000"/>
                </a:solidFill>
                <a:latin typeface="Arial Black"/>
                <a:ea typeface="黑体"/>
              </a:rPr>
              <a:t>Embedded AT</a:t>
            </a:r>
            <a:r>
              <a:rPr b="1" lang="zh-CN" sz="3600" spc="-1" strike="noStrike">
                <a:solidFill>
                  <a:srgbClr val="b2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b20000"/>
                </a:solidFill>
                <a:latin typeface="黑体"/>
                <a:ea typeface="黑体"/>
              </a:rPr>
              <a:t>主要软件特性（一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828720" y="1773360"/>
            <a:ext cx="792000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Calibri"/>
              </a:rPr>
              <a:t>● </a:t>
            </a:r>
            <a:r>
              <a:rPr b="1" lang="zh-CN" sz="2400" spc="-1" strike="noStrike">
                <a:solidFill>
                  <a:srgbClr val="99cc00"/>
                </a:solidFill>
                <a:latin typeface="Calibri"/>
              </a:rPr>
              <a:t>System API</a:t>
            </a:r>
            <a:r>
              <a:rPr b="1" lang="zh-CN" sz="2400" spc="-1" strike="noStrike">
                <a:solidFill>
                  <a:srgbClr val="99cc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99cc00"/>
                </a:solidFill>
                <a:latin typeface="Calibri"/>
              </a:rPr>
              <a:t>EVENT,MEMORY,SEMAPHORE,SLEEP,……</a:t>
            </a:r>
            <a:r>
              <a:rPr b="1" lang="zh-CN" sz="2400" spc="-1" strike="noStrike">
                <a:solidFill>
                  <a:srgbClr val="99cc00"/>
                </a:solidFill>
                <a:latin typeface="Calibri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eat_get_event, eat_get_event_num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eat_get_event_for_user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eat_create_se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eat_sem_get, eat_sem_p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eat_reset_module, eat_power_down, eat_sleep_enabl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Calibri"/>
              </a:rPr>
              <a:t>● </a:t>
            </a:r>
            <a:r>
              <a:rPr b="1" lang="zh-CN" sz="2400" spc="-1" strike="noStrike">
                <a:solidFill>
                  <a:srgbClr val="99cc00"/>
                </a:solidFill>
                <a:latin typeface="Calibri"/>
              </a:rPr>
              <a:t>Modem AP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eat_modem_write, eat_modem_re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Calibri"/>
              </a:rPr>
              <a:t>● </a:t>
            </a:r>
            <a:r>
              <a:rPr b="1" lang="zh-CN" sz="2400" spc="-1" strike="noStrike">
                <a:solidFill>
                  <a:srgbClr val="99cc00"/>
                </a:solidFill>
                <a:latin typeface="Calibri"/>
              </a:rPr>
              <a:t>Audio AP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eat_audio_play_tone_id,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eat_audio_stop_tone_id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eat_audio_play_data, eat_audio_stop_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Calibri"/>
              </a:rPr>
              <a:t>● </a:t>
            </a:r>
            <a:r>
              <a:rPr b="1" lang="zh-CN" sz="2400" spc="-1" strike="noStrike">
                <a:solidFill>
                  <a:srgbClr val="99cc00"/>
                </a:solidFill>
                <a:latin typeface="Calibri"/>
              </a:rPr>
              <a:t>UART AP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eat_uart_open, eat_uart_close, eat_uart_set_config,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eat_uart_write,wat_uart_read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eat_uart_set_debu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47"/>
          <p:cNvSpPr/>
          <p:nvPr/>
        </p:nvSpPr>
        <p:spPr>
          <a:xfrm>
            <a:off x="457200" y="68904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20000"/>
                </a:solidFill>
                <a:latin typeface="Arial Black"/>
                <a:ea typeface="黑体"/>
              </a:rPr>
              <a:t>Embedded AT</a:t>
            </a:r>
            <a:r>
              <a:rPr b="1" lang="zh-CN" sz="3600" spc="-1" strike="noStrike">
                <a:solidFill>
                  <a:srgbClr val="b2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b20000"/>
                </a:solidFill>
                <a:latin typeface="黑体"/>
                <a:ea typeface="黑体"/>
              </a:rPr>
              <a:t>主要软件特性（二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828720" y="1628640"/>
            <a:ext cx="792000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Calibri"/>
              </a:rPr>
              <a:t>● </a:t>
            </a:r>
            <a:r>
              <a:rPr b="1" lang="zh-CN" sz="2400" spc="-1" strike="noStrike">
                <a:solidFill>
                  <a:srgbClr val="99cc00"/>
                </a:solidFill>
                <a:latin typeface="Calibri"/>
              </a:rPr>
              <a:t>Flash AP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eat_flash_erase, eat_flash_write, eat_update_app, eat_update_app_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Calibri"/>
              </a:rPr>
              <a:t>● </a:t>
            </a:r>
            <a:r>
              <a:rPr b="1" lang="zh-CN" sz="2400" spc="-1" strike="noStrike">
                <a:solidFill>
                  <a:srgbClr val="99cc00"/>
                </a:solidFill>
                <a:latin typeface="Calibri"/>
              </a:rPr>
              <a:t>File system AP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eat_fs_Open, eat_fs_Close, eat_fs_Read, eat_fs_Write, eat_fs_Seek, eat_fs_GetFileSize,eat_fs_GetFilePosition, eat_fs_CreateDir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Calibri"/>
              </a:rPr>
              <a:t>● </a:t>
            </a:r>
            <a:r>
              <a:rPr b="1" lang="zh-CN" sz="2400" spc="-1" strike="noStrike">
                <a:solidFill>
                  <a:srgbClr val="99cc00"/>
                </a:solidFill>
                <a:latin typeface="Calibri"/>
              </a:rPr>
              <a:t>Periphery AP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eat_gpio_int_callback_func, eat_adc_callback_func, eat_gpio_setup,eat_gpio_write, eat_gpio_read, eat_pin_set_mode, eat_spi_init, eat_spi_read, eat_spi_write, eat_lcd_light_sw, eat_adc_get, eat_pwm_start, eat_pwm_stop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Calibri"/>
              </a:rPr>
              <a:t>● </a:t>
            </a:r>
            <a:r>
              <a:rPr b="1" lang="zh-CN" sz="2400" spc="-1" strike="noStrike">
                <a:solidFill>
                  <a:srgbClr val="99cc00"/>
                </a:solidFill>
                <a:latin typeface="Calibri"/>
              </a:rPr>
              <a:t>Timer AP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eat_timer_start, eat_timer_stop, eat_get_current_time, eat_get_rtc, eat_set_rtc, eat_gpt_start, eat_gpt_stop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etc.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7"/>
          <p:cNvSpPr/>
          <p:nvPr/>
        </p:nvSpPr>
        <p:spPr>
          <a:xfrm>
            <a:off x="457200" y="68904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20000"/>
                </a:solidFill>
                <a:latin typeface="Arial Black"/>
                <a:ea typeface="黑体"/>
              </a:rPr>
              <a:t>Embedded AT</a:t>
            </a:r>
            <a:r>
              <a:rPr b="1" lang="zh-CN" sz="3600" spc="-1" strike="noStrike">
                <a:solidFill>
                  <a:srgbClr val="b2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b20000"/>
                </a:solidFill>
                <a:latin typeface="黑体"/>
                <a:ea typeface="黑体"/>
              </a:rPr>
              <a:t>主要软件特性（三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828720" y="1628640"/>
            <a:ext cx="7920000" cy="57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Calibri"/>
              </a:rPr>
              <a:t>● </a:t>
            </a:r>
            <a:r>
              <a:rPr b="1" lang="en-US" sz="2400" spc="-1" strike="noStrike">
                <a:solidFill>
                  <a:srgbClr val="99cc00"/>
                </a:solidFill>
                <a:latin typeface="Calibri"/>
              </a:rPr>
              <a:t>Socket AP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at_gprs_bearer_hold, eat_gprs_bearer_release, eat_soc_connect, eat_soc_getsockopt, eat_soc_listen, eat_soc_accept, eat_soc_recv, eat_soc_sendto, eat_soc_recvfsrom, eat_soc_select, eat_soc_select, eat_soc_gethostbyname, eat_soc_close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Calibri"/>
              </a:rPr>
              <a:t>● </a:t>
            </a:r>
            <a:r>
              <a:rPr b="1" lang="en-US" sz="2400" spc="-1" strike="noStrike">
                <a:solidFill>
                  <a:srgbClr val="99cc00"/>
                </a:solidFill>
                <a:latin typeface="Calibri"/>
              </a:rPr>
              <a:t>SMS AP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at_set_sms_formate, at_send_pdu_sms, eat_set_sms_sc, eat_set_sms_storage, eat_send_text_sms, eat_read_sms, eat_delete_sms, eat_sms_register_new_message_callback, eat_sms_decode_tpdu, eat_set_sms_cnmi, eat_acsii_to_gsm7bit, eat_acsii_to_ucs2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Calibri"/>
              </a:rPr>
              <a:t>● </a:t>
            </a:r>
            <a:r>
              <a:rPr b="1" lang="en-US" sz="2400" spc="-1" strike="noStrike">
                <a:solidFill>
                  <a:srgbClr val="99cc00"/>
                </a:solidFill>
                <a:latin typeface="Calibri"/>
              </a:rPr>
              <a:t>Other AP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at_network_get_creg, eat_network_get_ber, eat_network_get_csq, eat_network_get_cgatt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7"/>
          <p:cNvSpPr/>
          <p:nvPr/>
        </p:nvSpPr>
        <p:spPr>
          <a:xfrm>
            <a:off x="457200" y="68904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20000"/>
                </a:solidFill>
                <a:latin typeface="Arial Black"/>
                <a:ea typeface="黑体"/>
              </a:rPr>
              <a:t>Embedded AT</a:t>
            </a:r>
            <a:r>
              <a:rPr b="1" lang="zh-CN" sz="3600" spc="-1" strike="noStrike">
                <a:solidFill>
                  <a:srgbClr val="b20000"/>
                </a:solidFill>
                <a:latin typeface="黑体"/>
                <a:ea typeface="黑体"/>
              </a:rPr>
              <a:t>编译环境说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468360" y="1700280"/>
            <a:ext cx="73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编译器为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RVCT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，版本为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ARM/Thumb C/C++ Compiler, RVCT3.1 [Build 569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下载工具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SIMCom_Multiupdate_tool_for_MTK_platform Vx.x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4211640" y="2852640"/>
            <a:ext cx="3645000" cy="29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26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安装包目录结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build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   编译配置文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core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SIMCOM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提供的头文件及      库文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m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Dem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源程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Doc: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帮助文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SIMxxx.ba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编译脚本，在命令行模式下运行脚本进行编译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output: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编译生成临时及目标文件，编译时生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6" descr=""/>
          <p:cNvPicPr/>
          <p:nvPr/>
        </p:nvPicPr>
        <p:blipFill>
          <a:blip r:embed="rId2"/>
          <a:stretch/>
        </p:blipFill>
        <p:spPr>
          <a:xfrm>
            <a:off x="1835280" y="3141720"/>
            <a:ext cx="21812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08:57:51Z</dcterms:created>
  <dc:creator>Maobin</dc:creator>
  <dc:description/>
  <cp:keywords/>
  <dc:language>en-US</dc:language>
  <cp:lastModifiedBy>Maobin</cp:lastModifiedBy>
  <dcterms:modified xsi:type="dcterms:W3CDTF">2014-05-23T07:13:03Z</dcterms:modified>
  <cp:revision>2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42</vt:lpwstr>
  </property>
</Properties>
</file>